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drumroll.wav" ContentType="audio/x-wav"/>
  <Override PartName="/ppt/media/arrow.wav" ContentType="audio/x-wav"/>
  <Override PartName="/ppt/media/image3.gif" ContentType="image/gif"/>
  <Override PartName="/ppt/media/image7.png" ContentType="image/png"/>
  <Override PartName="/ppt/media/bomb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74F-DD52-4287-8AB9-899C47E9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EE9-2EEE-4026-A34A-68C975C1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845-EFB9-4455-9A91-BD3589DE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724-F74C-487C-9FFE-49A76AC7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870F-2487-46E1-81D0-ECC9B268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F736-2BA6-4A21-9BD2-60E8BC9A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AB7E-445F-4C97-B4F8-255E05FD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9D91-1B58-4010-B9DA-6F7C270B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D8F0-CC02-4525-B1F1-70A53798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83A6-D3AA-4147-9EBB-E1F41FDD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E5B9-6FE9-4A91-B455-A283F65B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EDD-2080-4608-883B-FD2F1582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001E-0EF8-4C3D-8FD2-C487C2E1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A259-F88D-496A-BF8C-29D82873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043A-A14F-4FD2-806C-47DC02BA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1D0B-6BE9-4DD9-A16E-85B54744E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7DFC-8780-4B96-9CE2-CA29623D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04FE-C76A-4D8F-AADE-5683A03B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9A369-5C77-4F4B-82DC-7CD1913F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41D4-84B6-403D-BB7A-7DDEC06B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0939-EB55-4FA3-BB7E-11B81913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8403F-CCC8-48A7-9D61-2EEA91DD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79F-D10A-442F-B485-DF27DC58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22693-1EB3-4521-8273-5F38853C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C9C1-7D41-4F98-8735-EB0CAC9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C295-895D-4063-9163-7FB8074F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D23C-667B-486C-AF61-2D2EE868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F4BD-13A4-47CB-8BA7-8ED6B741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CE48-1CA0-4E9F-865A-49354D7A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0915A-8FB1-4298-8E53-FEC2C46C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D5928-0F48-4E07-BA29-CAAFE774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2B77-857A-44E8-BB14-39753192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53ED6-11A9-4721-A854-3E466373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CA0A-0E98-45F1-A242-BE0B31BF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ED9BD-317C-4144-A261-F06945D6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413CB-FF42-4F63-8DB2-EDEDFD72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BED6B-1D4D-4F1E-B427-DA7DCB0D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A1C2-3F87-42F5-8BA7-1489E38E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FFE4D-5FB6-48F2-84F8-3EA6A91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26921-4800-465C-90F2-DB1289D8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BFD79-1E09-403E-AB00-BE233A7A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C532-85DF-4139-B286-17CE253F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20F8-E599-4D6F-B4F0-09F05C5B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FEDF7-B4AD-4E2C-957B-FB2A1694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D763-F94D-4D63-8174-51399E75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EAD96-D0B7-49B1-88A4-38245118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9BAF3-B43F-43B3-B193-727130F2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CE15A-A18C-46AC-9270-05366B6D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7737A-83C0-4E94-AE32-9FF9E3E9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C57C3-8C3D-4F7E-A6F6-1A28584F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6BD7F-8902-4E47-8858-6E5F46BE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013CE-B048-4106-A2D0-A74CBBBA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2D41-2E3A-47E1-80DC-93C151E6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E49CE-F546-4E7A-BF8C-255833C9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2E595-4E10-49B5-A609-11EC8E91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7744-9C72-47A5-B1D8-1B3E1166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55241-64B3-4D3E-8F06-20A3CAC8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47FA9-9A67-4829-B1FC-380AE8FC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E6900-EB74-41AB-9446-18150458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CC2E3-C084-4BF5-A0CF-3746E16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FE6BA-962E-434B-83BC-2475691B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1828D-5383-4A5B-8CE6-3F724C9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B60E1-99E2-4A69-80CE-B9A36651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73FEC-C6D4-4282-B70B-3EA04117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4B67A-530C-48E2-98C7-5E779E1B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AD709-EC7E-4AA4-81DA-08E69C10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C6B-357C-4EEC-B63C-60CC7B7B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F2C9-6DDC-44A3-8944-ACCD51DF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50FD1-E7FF-4055-A77F-81917395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FCD3-3026-40B5-A6E4-1794C9B3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2EABF-2E5A-4B8E-B4A5-559D827C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D7752-0215-4395-982D-DBFDA77B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58948-BFC2-4883-9531-87455600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EE4CE-84D2-45AB-8479-529A957C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C982C-C2FD-4248-B8A7-BBBCA836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E6B4E-F16A-47BC-8142-14A43179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6F858-EE0A-49DC-8BDE-5FA71CB2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C29-1CAA-4EF7-9C93-AA0D0EDD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3805B-1498-4F4A-B17F-542B4704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23BD-9D66-4A47-97E4-79CE6C8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A763C-B5C5-45FF-A877-D17684E6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7F3D-A893-4403-AC89-CF8AE6184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5B3E1-0383-448A-AC50-C99E08343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5AE-FE4E-43D8-9A04-9F183C3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8942-42FF-4A0A-A8F0-1F341895C1C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BAD4-8BE8-4F66-BD25-9E585D55D25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7C4F-4CC5-4F28-8C45-580BAE5DB44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EE73-1AC0-4E0C-BE78-51F4DD8DC7C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F491-AE14-4AC6-959C-0350E6A80DB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2BA4-81CA-46CB-9CE5-E0C5E31D296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8768-96DC-41EA-8BD8-E8F50FF9C87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347760" y="285840"/>
            <a:ext cx="8119800" cy="42735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By :</a:t>
            </a:r>
            <a:r>
              <a:rPr b="1" lang="en-US" sz="2000" spc="-1" strike="noStrike">
                <a:solidFill>
                  <a:srgbClr val="ffffff"/>
                </a:solidFill>
                <a:latin typeface="Castellar"/>
              </a:rPr>
              <a:t>Windell.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stellar"/>
              </a:rPr>
              <a:t>Illustrations by :The comput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3" descr="home_collage.jpg"/>
          <p:cNvPicPr/>
          <p:nvPr/>
        </p:nvPicPr>
        <p:blipFill>
          <a:blip r:embed="rId2"/>
          <a:stretch/>
        </p:blipFill>
        <p:spPr>
          <a:xfrm>
            <a:off x="2127240" y="4187880"/>
            <a:ext cx="466416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7828200" cy="52783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eople also have the right to bear weapon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individually and collectively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right is also presented in the context of </a:t>
            </a:r>
            <a:r>
              <a:rPr b="0" i="1" lang="en-US" sz="3200" spc="-1" strike="noStrike">
                <a:solidFill>
                  <a:srgbClr val="ffffff"/>
                </a:solidFill>
                <a:latin typeface="Corbel"/>
              </a:rPr>
              <a:t>military servic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lso shown to the broader righ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self defens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The 2</a:t>
            </a:r>
            <a:r>
              <a:rPr b="0" lang="en-US" sz="3800" spc="-1" strike="noStrike" baseline="30000">
                <a:solidFill>
                  <a:srgbClr val="c1eeff"/>
                </a:solidFill>
                <a:latin typeface="Consolas"/>
              </a:rPr>
              <a:t>nd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 Amendment 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Picture 3" descr="soldado-2_4.gif"/>
          <p:cNvPicPr/>
          <p:nvPr/>
        </p:nvPicPr>
        <p:blipFill>
          <a:blip r:embed="rId1"/>
          <a:stretch/>
        </p:blipFill>
        <p:spPr>
          <a:xfrm>
            <a:off x="5181480" y="2895480"/>
            <a:ext cx="2076480" cy="192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4000">
    <p:zoom dir="out"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705960" y="1350720"/>
            <a:ext cx="7218360" cy="45925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mendment was signed in        September 25,1789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ames Madison was the author of the 10 Amendm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Part 2       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The 2</a:t>
            </a:r>
            <a:r>
              <a:rPr b="0" lang="en-US" sz="3800" spc="-1" strike="noStrike" baseline="30000">
                <a:solidFill>
                  <a:srgbClr val="c1eeff"/>
                </a:solidFill>
                <a:latin typeface="Consolas"/>
              </a:rPr>
              <a:t>nd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 Amendment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Picture 3" descr="JamesMadisonJF62s.jpg"/>
          <p:cNvPicPr/>
          <p:nvPr/>
        </p:nvPicPr>
        <p:blipFill>
          <a:blip r:embed="rId1"/>
          <a:stretch/>
        </p:blipFill>
        <p:spPr>
          <a:xfrm>
            <a:off x="4267080" y="2895480"/>
            <a:ext cx="4165560" cy="396252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e citizens should not have the rights to bear arms because a citizen might get angry and shoot some one over a cup of tea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nother reason is because if some one hears a gunshot they'll pull out there gun and start shooting for no apparent reason and no ones shooting at them!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56840" y="512280"/>
            <a:ext cx="79246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1eeff"/>
                </a:solidFill>
                <a:latin typeface="Copperplate Gothic Bold"/>
              </a:rPr>
              <a:t>amendment 2 rights to bear arms should be abolished because 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Picture 4" descr="1860riderpistol.gif"/>
          <p:cNvPicPr/>
          <p:nvPr/>
        </p:nvPicPr>
        <p:blipFill>
          <a:blip r:embed="rId1"/>
          <a:stretch/>
        </p:blipFill>
        <p:spPr>
          <a:xfrm>
            <a:off x="6324480" y="4724280"/>
            <a:ext cx="2514600" cy="1938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edge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446960" cy="4897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68440" indent="-514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Now people go into stores and rob places for money and for other valuable items such as jewelry clothing and sho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68440" indent="-514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hildren come into school with guns in there shirts and creating gangs through out the schools of Americ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6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What’s happening now?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Picture 3" descr="le-mat-revolver.jpg"/>
          <p:cNvPicPr/>
          <p:nvPr/>
        </p:nvPicPr>
        <p:blipFill>
          <a:blip r:embed="rId1"/>
          <a:stretch/>
        </p:blipFill>
        <p:spPr>
          <a:xfrm>
            <a:off x="5372280" y="4648320"/>
            <a:ext cx="355572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  <p:sndAc>
      <p:stSnd>
        <p:snd r:embed="rId2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6913800" cy="4897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My personal opinion is that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mendment  should be abolished because in some states now this is still aloud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lso people are getting killed because of this law and just because they want to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Gangs are also being formed and walking around with gun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What I think?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Another reason is the 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Virginia TECH </a:t>
            </a:r>
            <a:r>
              <a:rPr b="0" i="1" lang="en-US" sz="3200" spc="-1" strike="noStrike">
                <a:solidFill>
                  <a:srgbClr val="ffffff"/>
                </a:solidFill>
                <a:latin typeface="comic"/>
              </a:rPr>
              <a:t>TRADGEdY </a:t>
            </a: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that probably wouldn’t have happened if there were no gun shops unless you have a license and registration for hunting animal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(This tragedy happen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All across the world!!!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Part 2          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I think?   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4" descr="242050.jpg"/>
          <p:cNvPicPr/>
          <p:nvPr/>
        </p:nvPicPr>
        <p:blipFill>
          <a:blip r:embed="rId1"/>
          <a:stretch/>
        </p:blipFill>
        <p:spPr>
          <a:xfrm>
            <a:off x="7004160" y="3498840"/>
            <a:ext cx="1974600" cy="3114720"/>
          </a:xfrm>
          <a:prstGeom prst="rect">
            <a:avLst/>
          </a:prstGeom>
          <a:ln w="0">
            <a:noFill/>
          </a:ln>
        </p:spPr>
      </p:pic>
    </p:spTree>
  </p:cSld>
  <p:transition advTm="7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2:50:08Z</dcterms:created>
  <dc:creator>bros 4 life</dc:creator>
  <dc:description/>
  <dc:language>en-US</dc:language>
  <cp:lastModifiedBy>sadie</cp:lastModifiedBy>
  <dcterms:modified xsi:type="dcterms:W3CDTF">2008-05-01T22:17:31Z</dcterms:modified>
  <cp:revision>46</cp:revision>
  <dc:subject/>
  <dc:title>Why the article of confederation needs to be replaced</dc:title>
</cp:coreProperties>
</file>